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C30-9A74-4486-B73E-E248A2B9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2C0-EA77-47DA-941F-B2783C0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2DD7C-CEB9-4189-A23C-9E50126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EBAA8-A9AF-4903-99F1-328FDE4F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430FA-5583-4754-BC3F-BE244E7F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E5583-3D92-4AB4-8CAF-E07EF8F4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BC6B7-9191-4C53-8E32-E13146A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D3F1D-B849-4383-A752-EB73577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CAED7-005D-44D7-BD78-3F09F2E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86B4-B598-4400-AD7C-F9266401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3C428-30B2-4F25-A09A-C1F2AB1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80B3-638B-47BE-9FE6-3181F785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F5E5-1FC8-4022-95BF-380AA0E9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31F89-60C5-4406-9A5B-D5606215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DCACA-BE96-4486-9980-CD1711F9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F51E-EE67-4DA2-9FB9-45FAC9D2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7728B-345B-46B5-9374-5325978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FFFA06-4918-4FD0-B97F-8D2D9D43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403AD-AAA5-45C0-AA4A-4124BFD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DA0A0-BFA4-4E6B-928B-C4A0829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83D7-D271-4F78-89AE-5F68376C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3BAB-81E6-4543-BA3C-C0C37532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82B2A-15C7-4365-AB60-FCBEF9FD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2966-EF10-432B-B0E9-2D9206D8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C113D0-D57B-4EEF-88AA-737B7723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6DF7A-E1A9-4F7F-A885-B0B35A47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1EB57-CA47-4C19-B9B3-F2E0D5A8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3B7C2-BAF2-444C-BA5D-9C7A078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D78B2-2E9E-442A-961E-3DF170F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ABE5F-C7FB-4E36-A52F-EDEA334D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44417-C494-4B13-A6BA-17363D02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2CEEF-115B-4046-AEFE-094FB9E7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F73EC-6DB3-4C7E-9158-5059624B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958FEB-E415-44B5-AB85-72CD038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C3D-43BF-437C-B540-4CC0BA17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A1059-A1F9-4CB0-AF5A-301C63C5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ECB59-D8B7-4F3C-88AE-6044A291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F6BB4-2EEF-4CCC-A369-84C7E2B6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23766-7627-4110-B5FA-CD2316BE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6DDD-AA00-4DB9-A3D0-4AB527F2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9E03B-0470-468B-84D3-8D81D1A8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4EEBA-2174-48C2-BC3C-AEF9774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F4AB3-F4C2-498E-A0C2-335976F4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8FFB7-EA9D-483A-B4CB-646E7B5C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B850C-3805-4DE4-9B42-2AB2D887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5237-83B8-4896-9DE1-4775009E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39C26-B51D-4ABE-9C12-606CA676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56027-DBE1-4221-8F3D-E1FD2242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2B65F-3DBB-4EEA-A811-C955DD8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BA043-AB2A-40B7-9EE4-417D778E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AC53E-23BE-4046-AD40-7DCA9231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AED26-066F-45E7-9CC9-61432625F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B4728-6E9E-4EF2-AFB1-7C277D35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5091FB-EFAF-4A72-9245-59998628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780BEC-2344-4894-A882-B8D580F2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B1069-1DF8-45E1-9605-13FFB07A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8DD7-B7FD-45FB-B8B3-5CE46FC8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A3252-DF03-4D28-AFD1-469BC211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E09FE-BA15-4CA9-826B-D19E41D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7DBE77-EEA8-44D0-896C-A9BF467A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6351E-1289-4A2C-84B1-2ADFDE7B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F6339-F9F6-44E7-9A62-9C44F975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B6B63-208A-4227-8213-EF4BDB1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358B86-2E4D-4FE8-AE6F-979A4D93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DBD70-63F7-43BC-83E4-0DB3D019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98CF8-0919-4FBA-80F2-03CC4EF8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445F40-7199-4EC9-AA17-79EBBC81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518B-F2F1-4A8A-8C40-590A039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E3B41-12DE-4B46-B778-E1DDABE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7D6406-6CC9-49FB-980A-981F2BA2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4D14E-5FFB-4CBF-AEFF-D6857AB5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9C624-7124-409C-A4B1-97D9FBE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59AB3-3800-4825-B000-E95773F5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0FCF0-EB9B-47E4-B44C-B0B28547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F64A7-0F9E-4350-AE83-D4814FFB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873117-83A8-41A3-B1F5-EAF6265A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D9016-8F28-4778-9257-7E3814AB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B16E4-31BD-415D-A2F1-88F5EBD2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7779-5594-489F-878A-D5740003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FB17C-A248-4777-927F-9918535E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C7911-0CEF-490C-85C4-E682256C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761FF-34C9-4179-ACE4-9C0020CE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0A399-CAC7-4C2A-959C-0050470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E126B-2963-40F2-93E7-4149AD81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B0DB67-1690-4242-B890-A00B3170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B5257-2A10-4B49-BD07-E95FB72C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FB099-98A7-40DF-A2A6-2139873A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DFD641-5A7F-424A-B54A-A132C035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F7F4AC-1206-4C22-A1F7-709C5F48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E79E-2772-464F-B88D-A67C675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EC8EB-2282-4F0B-A1DA-CE884D49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74A34F-460D-4126-A77D-C2A0308D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9320FA-905E-429C-86A9-9FA85FED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EEEF6-E723-4D1D-9912-8D69E597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D4D47-A1A8-4B33-8EDB-E161323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1962F6-6BAF-47B3-BCEA-5FE361FA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E2470B-1B92-4A76-ABED-EF6FDA14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1C575-DF5C-4C22-96EF-9CDE5A66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1BAEF-091E-4211-8C70-0DD3E247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D2752-D151-4541-A9DB-B861901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4E98-5786-4217-B6FA-B0AA634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66AD2-FCA0-4B4D-B098-9C399245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3E66D6-775F-4FC0-ACCD-8F2D9525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8F45A3-9843-40DE-A310-41D68276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AEB1C8-4A27-4CDE-A526-93399E00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8D461-57D7-4346-977C-9C8A1E36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DE821F-A0BF-4610-91BA-A664016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6D6D05-5465-4826-A26F-E9C9A21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8EA5F8-49FA-43C1-B5B1-E875BD26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11368-22CF-4987-B97D-F5829AF7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F565C1-C5B2-40B6-A73C-C22F3FF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F8B-E1F8-49B4-9251-F4183E1F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3F46-BEA8-4C0A-9084-F18D15FF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8A856A-4D45-426D-AF0B-351230D0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69C0A-0B8D-46B5-A758-BF70A61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E1694-B5CD-473A-9CB6-84F4464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0EBB5-D4EC-4AF4-ABB2-06438311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9589D-83A1-475E-B8CD-0E5460C8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D40DB-C69A-474B-AF60-92DA611D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86DACE-9CF3-45F3-A9A5-2F258B23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CAA79-3045-4405-B8BE-25D0E333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92D54-266E-4C32-B59E-E9B89344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9E51B-2F33-490F-8901-63E3CB03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7CA6-E3CF-412F-BD06-3050957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C45B4-E30B-41B7-BF25-0ACC1812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C613F0-6E1C-4381-AA8F-4EC75EEB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D2C10D-9AEB-4E6B-A177-C52C8AA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C82B55-5935-477C-BAE6-AAD29F6B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A3391-BA59-4253-8607-796582CF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325E89-AC66-4CF7-BC11-56D46EA2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28B950-E753-43F3-8F2B-B4D03071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1DD91B-3208-44D5-87EF-8AAB2F08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251F6A-47E7-4DF6-969A-F2633B54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F5F6B-D5B5-4B82-A914-81A4825D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4811-0848-48B8-A5BB-4E29170A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5F906-A407-47D6-B18B-F80E4C51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8E0D7B-91BA-4501-BADF-2D4A3EE5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21899C-8100-4C16-B40F-B6ED0B83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5E584-5003-4D6D-AE4D-CC7D5998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AC009F-148F-4BA0-99C6-3979EE8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BE46F-C77E-4B08-8DAE-F9D7364A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EF1BA6-136A-45E2-9F08-FB02FD9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DEA02-3873-4E3C-B115-219037F5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EBBBEF-C1A1-4EF9-B83E-483296D9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E0F625-B590-417C-A3B8-148741E9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0464-923C-45B8-86D4-67912524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DCBFE-0CD5-42BD-85D3-2F55B79F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0F0D4F-1B6E-416B-94F6-228B1157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319A1F-0325-4D7C-AC1F-027EB9BE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BA25A-84D4-4FD2-9169-1A0B4A65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C176C3-B776-4089-B58F-5C4328D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32079-0A3F-4CE9-A384-B732494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9113E-F238-4A93-BB03-4A300604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68CF6E-BD2A-4E0F-934B-71663DA7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557AC-A4AE-4AB0-8E2C-4DE23FA2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5B69F5-8120-485C-9595-6557AA14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5D3-1EA2-48FA-9EE6-68759E78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BD4A3B-ACA0-4F80-86B8-2D14BDD5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17B751-2133-4F2E-AD39-8B936A16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2B0D10-5197-4B11-9C35-C661A5FD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A76064-A4B7-43F1-A44B-454C73B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FD18F9-A0D7-4CC4-A41E-03FFA2C1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62FDBD-5CB0-4C85-8AC9-07A8883B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8799C-B5AD-43A6-BED2-007A6C7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4158D-D18C-41AA-8C38-9AEBE174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72D7D-2415-416B-8340-E1A70B2D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77FC75-27B2-43D5-8DAD-8BA23A6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0A89B-5F5B-468C-BA77-BB4D2BC7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CDED02-410D-43BD-916E-1949C11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81FAD-1095-484C-BAFB-EA64CF14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BD88E4-260D-45CE-A8E9-B23DAFBC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BA38E-3455-4CCA-A2D0-7E25542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810F5-BB07-4FBE-8C6A-E33DCFB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9AA8-13B9-471B-91D7-C8AC314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192A8-2804-458F-8F4E-59971DAF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9B8-1A4C-4976-90C2-5EF8149F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E3C62-DDA7-4D19-8D4E-73A3D6E6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F1BF-FA15-45EA-A7CD-620C3117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7AE6F-BCB2-4915-84F9-E6820CD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DEBB-B0BD-492C-AD9C-A1D39F9D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82BD-3C6D-4C1B-B38C-75A1B063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0BA8-C38F-4599-B85D-8419C286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11823-6B8F-4A70-8B02-EA8BF046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1710-0412-440B-85B4-1DA80DF7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CCEA1-9E3B-447D-839F-410A51CA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1E080-779F-4E41-A6BD-D0E4BFF2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ECD-3472-421B-AF52-EA1186A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CC792-DA07-422C-9BEB-A2A4A143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CFA38-5906-4649-946F-E507EEE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5CB0-4883-4516-B050-E355094D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728C6-C5C4-4438-BDE1-9DDAA69B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DCD1-29FC-441A-A4BD-D660C1F7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0BC0-4DBE-4326-B850-69A38F90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5634A-1AF5-473F-8299-DDDCFBD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B896-04CC-4E1D-A1E2-A01BC30E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D9618-302B-4A29-AB91-6513F611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D442-BBFC-4894-8804-375D6D73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510-1014-4985-AC3E-9FCF10F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A2D71-63E5-4BD9-AEC4-D82346D4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5A77-4452-40CD-80F4-79FFF4FB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451D8-FF36-45EE-93C1-C10C7BA7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8702-9558-4C67-817A-8EA33852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8D37-EC48-4994-BC89-2521E765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48F4-C82C-4F2C-A9CE-F8405C33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50334-DAAE-4762-B69A-E0B311D8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3347C-2436-4678-846F-48F367CE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7DB14-54ED-4C9E-A49B-5CE5F09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C177E-6A2E-46BA-9953-4CDCD600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4C9-7E4C-4B3D-BEEF-C2A6A227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05B9-CD30-4782-AF17-F073E065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97614-F9D3-4E58-B1A4-38456327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188E-9897-4C8C-BC64-7E983C58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CD195-8129-49C8-BD26-074E3E0E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9F91-43D1-4BF3-90CD-499302C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1FAB-AADE-4585-B4DC-7359CE06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4C74E-294D-4151-A51A-07BC764C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59233-E873-4C22-B5F5-657B6045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45B2-964D-47D4-BC2D-75BB688F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2A35E-E9AA-4132-AA25-A7D81703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9BA-712E-42DF-8004-9D04ED0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DB67D-7B60-454B-9152-AB204FBB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97F2F-E31A-47D1-960A-9C7425BF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4D961-D4A7-49CD-B902-F97FA360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92335-1794-4F46-AA26-902E11C5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0930-3DC5-489F-81B1-DB7AB26B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B90F4-E731-48C6-BF6A-AB68B33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504AB-5043-455F-BDC3-B29B4D53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69C99-F87B-4806-8F04-63642464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412BD-1EAF-415F-98E4-50A6E6B6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B6915-620F-4696-AB54-07390AAE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1997-974A-4019-BEEB-C036D823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E7A87-5A40-4F14-BA31-90035218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8BD53-807B-4035-8892-D4EBCCB4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2D49D-C956-44CD-88CF-42AF01D2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9FE6C-E81E-49EF-A057-B5737463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56337-86E8-4EE8-B778-BD22CD18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A2456-7724-4FC9-BC9E-E20DF925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E8D01-6771-4A16-8DA0-3ADD91F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1FF3-EF41-4153-B0B5-82913AF0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0D5B9-032D-4F65-8AAA-7A7531E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A49BB-DAE0-439D-ABB2-78351FC6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85C-F07E-4AD5-87D1-2DACF65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896A6-A29C-40F8-A283-5ADE808A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5A2CC-0330-4387-908F-C5F99019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4B02C-4562-49C4-A413-00AEFCCF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20833-C0F7-447A-994F-23C56DB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4E4B-2238-49D1-A8CC-1B1FD5D1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6802-71BC-4F53-8467-92E992F5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67E1-169F-4504-89D0-EA3604873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135DB-2BCD-4974-AC37-6F5F2948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1AD5-8053-40B4-BF02-0291626C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A09E-C759-4CF2-847C-2EEB2400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257D-DD62-4F40-B131-665A62B58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D308-A069-47C7-BE1D-6F9F82FE2E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77C2-1D61-497E-A8AE-11B145C817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CAD1-A4E5-45EA-A484-33CD2984D0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89F-1F9B-4E1A-95F8-A8B383B9E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6FB-7C17-4D67-B61F-CC1C79012A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4981-78F0-4C97-967F-DAFD72F9C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286B-6A05-427F-A032-32E060534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08D7-DFF2-47E3-B4F5-748E32D66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EF8-6238-4218-8E98-8E70434CED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DF55-B47B-473F-962F-CB1699971E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2A49-304D-41E1-ACCE-188CFBC87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91DA-C038-4794-9162-93E4A76254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6FF0-DCCD-41C2-93C8-5DC7696F9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5759-59CD-4787-B39A-D5419D34B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0ED-3148-4D80-B377-53127713B5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4CE0-D55A-4A4E-BAD2-04A78DD60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AAB-A378-4B99-95A1-2C5EB2714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BCD-C07D-43D5-A2E0-90002A7B00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394-F816-4196-93C6-D4E677E76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D83-77A0-4F88-9462-CB250E4BD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0F9-96C8-470B-A48D-AA5909463B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2AFA-8C8D-44BB-B17A-1425F4BD62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5DDD-6AB2-4625-90E0-763E67498D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6D41-A369-4CD6-843D-42FC574525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730-0C26-44A1-97BD-6DD327C3AE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095B-83F3-442E-9200-083CDD070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F2FB-3FC1-4370-B714-490663ECE6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1F2-5925-4185-87EF-B6D5E4FA7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CD65-DD66-4508-957F-8392BCA13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D9B0-1C49-4657-A988-66CF8497E9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879B-DC24-477C-A975-3D37775D25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26CA-C346-4E51-B8A0-3FE2B1CCD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346F-B130-4F9A-A981-C3A5ACA8C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C884-51A3-48B1-8024-44BDCECC17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F35E-5EEC-4D87-8742-CCB9FC822F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079D-D12F-4184-844D-6B909690D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2133-46F8-475C-98DF-0E4B1440D0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3A64-5771-4E2F-9CC4-08E694EF1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C726-BA7A-4FEE-AC2F-40BC59A15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838160" y="2367000"/>
            <a:ext cx="54676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69633" descr=""/>
          <p:cNvPicPr/>
          <p:nvPr/>
        </p:nvPicPr>
        <p:blipFill>
          <a:blip r:embed="rId1"/>
          <a:stretch/>
        </p:blipFill>
        <p:spPr>
          <a:xfrm>
            <a:off x="276120" y="1357200"/>
            <a:ext cx="8591760" cy="4143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2"/>
          <a:stretch/>
        </p:blipFill>
        <p:spPr>
          <a:xfrm>
            <a:off x="8101080" y="2579760"/>
            <a:ext cx="51732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8609" descr=""/>
          <p:cNvPicPr/>
          <p:nvPr/>
        </p:nvPicPr>
        <p:blipFill>
          <a:blip r:embed="rId1"/>
          <a:stretch/>
        </p:blipFill>
        <p:spPr>
          <a:xfrm>
            <a:off x="190440" y="189000"/>
            <a:ext cx="8763120" cy="6315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8013600" y="131760"/>
            <a:ext cx="517680" cy="4856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8028000" y="3716280"/>
            <a:ext cx="51768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7585" descr=""/>
          <p:cNvPicPr/>
          <p:nvPr/>
        </p:nvPicPr>
        <p:blipFill>
          <a:blip r:embed="rId1"/>
          <a:stretch/>
        </p:blipFill>
        <p:spPr>
          <a:xfrm>
            <a:off x="257040" y="790560"/>
            <a:ext cx="8629920" cy="52768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6516720" y="765000"/>
            <a:ext cx="517320" cy="4860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572000" y="1944720"/>
            <a:ext cx="1079640" cy="4856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250920" y="2565360"/>
            <a:ext cx="8642160" cy="10796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826920" y="4840200"/>
            <a:ext cx="5761080" cy="486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755640" y="5459400"/>
            <a:ext cx="57610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6561" descr=""/>
          <p:cNvPicPr/>
          <p:nvPr/>
        </p:nvPicPr>
        <p:blipFill>
          <a:blip r:embed="rId1"/>
          <a:stretch/>
        </p:blipFill>
        <p:spPr>
          <a:xfrm>
            <a:off x="971640" y="2271600"/>
            <a:ext cx="7200720" cy="23148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258920" y="2795760"/>
            <a:ext cx="6697800" cy="4856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258920" y="3371760"/>
            <a:ext cx="6697800" cy="48600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116000" y="4005360"/>
            <a:ext cx="669780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图片 65537" descr=""/>
          <p:cNvPicPr/>
          <p:nvPr/>
        </p:nvPicPr>
        <p:blipFill>
          <a:blip r:embed="rId1"/>
          <a:stretch/>
        </p:blipFill>
        <p:spPr>
          <a:xfrm>
            <a:off x="419040" y="2295360"/>
            <a:ext cx="8305920" cy="2267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258920" y="2867040"/>
            <a:ext cx="7561080" cy="4856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1187280" y="3500280"/>
            <a:ext cx="7561440" cy="4860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75614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64515"/>
          <p:cNvGrpSpPr/>
          <p:nvPr/>
        </p:nvGrpSpPr>
        <p:grpSpPr>
          <a:xfrm>
            <a:off x="276120" y="836640"/>
            <a:ext cx="8591760" cy="5367240"/>
            <a:chOff x="276120" y="836640"/>
            <a:chExt cx="8591760" cy="5367240"/>
          </a:xfrm>
        </p:grpSpPr>
        <p:pic>
          <p:nvPicPr>
            <p:cNvPr id="1081" name="图片 64513" descr=""/>
            <p:cNvPicPr/>
            <p:nvPr/>
          </p:nvPicPr>
          <p:blipFill>
            <a:blip r:embed="rId1"/>
            <a:stretch/>
          </p:blipFill>
          <p:spPr>
            <a:xfrm>
              <a:off x="276120" y="836640"/>
              <a:ext cx="859176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图片 64514" descr=""/>
            <p:cNvPicPr/>
            <p:nvPr/>
          </p:nvPicPr>
          <p:blipFill>
            <a:blip r:embed="rId2"/>
            <a:stretch/>
          </p:blipFill>
          <p:spPr>
            <a:xfrm>
              <a:off x="1187280" y="4365720"/>
              <a:ext cx="49341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3" name="Picture 1" descr=""/>
          <p:cNvPicPr/>
          <p:nvPr/>
        </p:nvPicPr>
        <p:blipFill>
          <a:blip r:embed="rId3"/>
          <a:stretch/>
        </p:blipFill>
        <p:spPr>
          <a:xfrm>
            <a:off x="684360" y="2378160"/>
            <a:ext cx="6840360" cy="4856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4"/>
          <a:stretch/>
        </p:blipFill>
        <p:spPr>
          <a:xfrm>
            <a:off x="611280" y="2997360"/>
            <a:ext cx="6840360" cy="4856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6840360" cy="4856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6840720" cy="79200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7"/>
          <a:stretch/>
        </p:blipFill>
        <p:spPr>
          <a:xfrm>
            <a:off x="539640" y="5373720"/>
            <a:ext cx="6840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图片 63489" descr=""/>
          <p:cNvPicPr/>
          <p:nvPr/>
        </p:nvPicPr>
        <p:blipFill>
          <a:blip r:embed="rId1"/>
          <a:stretch/>
        </p:blipFill>
        <p:spPr>
          <a:xfrm>
            <a:off x="409680" y="1052640"/>
            <a:ext cx="8324640" cy="4752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2"/>
          <a:stretch/>
        </p:blipFill>
        <p:spPr>
          <a:xfrm>
            <a:off x="611280" y="2795760"/>
            <a:ext cx="6985080" cy="48564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3"/>
          <a:stretch/>
        </p:blipFill>
        <p:spPr>
          <a:xfrm>
            <a:off x="684360" y="3429000"/>
            <a:ext cx="6984720" cy="4856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4"/>
          <a:stretch/>
        </p:blipFill>
        <p:spPr>
          <a:xfrm>
            <a:off x="684360" y="4005360"/>
            <a:ext cx="6984720" cy="48564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5"/>
          <a:stretch/>
        </p:blipFill>
        <p:spPr>
          <a:xfrm>
            <a:off x="468360" y="4581360"/>
            <a:ext cx="6985080" cy="486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6"/>
          <a:stretch/>
        </p:blipFill>
        <p:spPr>
          <a:xfrm>
            <a:off x="539640" y="5229360"/>
            <a:ext cx="69850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62465" descr=""/>
          <p:cNvPicPr/>
          <p:nvPr/>
        </p:nvPicPr>
        <p:blipFill>
          <a:blip r:embed="rId1"/>
          <a:stretch/>
        </p:blipFill>
        <p:spPr>
          <a:xfrm>
            <a:off x="233280" y="903240"/>
            <a:ext cx="8677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61441" descr=""/>
          <p:cNvPicPr/>
          <p:nvPr/>
        </p:nvPicPr>
        <p:blipFill>
          <a:blip r:embed="rId1"/>
          <a:stretch/>
        </p:blipFill>
        <p:spPr>
          <a:xfrm>
            <a:off x="461880" y="1395360"/>
            <a:ext cx="8220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图片 70657" descr=""/>
          <p:cNvPicPr/>
          <p:nvPr/>
        </p:nvPicPr>
        <p:blipFill>
          <a:blip r:embed="rId1"/>
          <a:stretch/>
        </p:blipFill>
        <p:spPr>
          <a:xfrm>
            <a:off x="552600" y="1938240"/>
            <a:ext cx="8038800" cy="29815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2"/>
          <a:stretch/>
        </p:blipFill>
        <p:spPr>
          <a:xfrm>
            <a:off x="468360" y="1901880"/>
            <a:ext cx="4895640" cy="4856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3"/>
          <a:stretch/>
        </p:blipFill>
        <p:spPr>
          <a:xfrm>
            <a:off x="250920" y="2506680"/>
            <a:ext cx="4895640" cy="4856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4"/>
          <a:stretch/>
        </p:blipFill>
        <p:spPr>
          <a:xfrm>
            <a:off x="324000" y="3127320"/>
            <a:ext cx="8424720" cy="48600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5"/>
          <a:stretch/>
        </p:blipFill>
        <p:spPr>
          <a:xfrm>
            <a:off x="324000" y="3716280"/>
            <a:ext cx="1584000" cy="4860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6"/>
          <a:stretch/>
        </p:blipFill>
        <p:spPr>
          <a:xfrm>
            <a:off x="1951200" y="3716280"/>
            <a:ext cx="6797520" cy="4860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7"/>
          <a:stretch/>
        </p:blipFill>
        <p:spPr>
          <a:xfrm>
            <a:off x="85680" y="4292640"/>
            <a:ext cx="1584360" cy="48564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8"/>
          <a:stretch/>
        </p:blipFill>
        <p:spPr>
          <a:xfrm>
            <a:off x="1720800" y="4292640"/>
            <a:ext cx="67978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00200" y="1247760"/>
            <a:ext cx="5943600" cy="4362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1440000" cy="4730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1440000" cy="4734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4211640" y="4552920"/>
            <a:ext cx="1873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59410" descr=""/>
          <p:cNvPicPr/>
          <p:nvPr/>
        </p:nvPicPr>
        <p:blipFill>
          <a:blip r:embed="rId1"/>
          <a:stretch/>
        </p:blipFill>
        <p:spPr>
          <a:xfrm>
            <a:off x="1566720" y="1895400"/>
            <a:ext cx="6010560" cy="30672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851280" y="2392200"/>
            <a:ext cx="1441440" cy="473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356000" y="2957400"/>
            <a:ext cx="129564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58373" descr=""/>
          <p:cNvPicPr/>
          <p:nvPr/>
        </p:nvPicPr>
        <p:blipFill>
          <a:blip r:embed="rId1"/>
          <a:stretch/>
        </p:blipFill>
        <p:spPr>
          <a:xfrm>
            <a:off x="1809720" y="942840"/>
            <a:ext cx="58579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57352" descr=""/>
          <p:cNvPicPr/>
          <p:nvPr/>
        </p:nvPicPr>
        <p:blipFill>
          <a:blip r:embed="rId1"/>
          <a:stretch/>
        </p:blipFill>
        <p:spPr>
          <a:xfrm>
            <a:off x="1590840" y="987480"/>
            <a:ext cx="5962320" cy="51055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3578400" y="936720"/>
            <a:ext cx="4162320" cy="473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476360" y="1498680"/>
            <a:ext cx="4162320" cy="4730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332000" y="1989000"/>
            <a:ext cx="669600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416232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1403280" y="3054240"/>
            <a:ext cx="64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7"/>
          <a:stretch/>
        </p:blipFill>
        <p:spPr>
          <a:xfrm>
            <a:off x="1332000" y="3587760"/>
            <a:ext cx="64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8"/>
          <a:stretch/>
        </p:blipFill>
        <p:spPr>
          <a:xfrm>
            <a:off x="1476360" y="4091040"/>
            <a:ext cx="115092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9"/>
          <a:stretch/>
        </p:blipFill>
        <p:spPr>
          <a:xfrm>
            <a:off x="2627280" y="4062240"/>
            <a:ext cx="416232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6324" descr=""/>
          <p:cNvPicPr/>
          <p:nvPr/>
        </p:nvPicPr>
        <p:blipFill>
          <a:blip r:embed="rId1"/>
          <a:stretch/>
        </p:blipFill>
        <p:spPr>
          <a:xfrm>
            <a:off x="1609560" y="1333440"/>
            <a:ext cx="5924880" cy="4191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3621240" y="3357720"/>
            <a:ext cx="426384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1476360" y="3860640"/>
            <a:ext cx="4264200" cy="473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1476360" y="4379760"/>
            <a:ext cx="6264360" cy="4734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1258920" y="4941720"/>
            <a:ext cx="6264360" cy="4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5300" descr=""/>
          <p:cNvPicPr/>
          <p:nvPr/>
        </p:nvPicPr>
        <p:blipFill>
          <a:blip r:embed="rId1"/>
          <a:stretch/>
        </p:blipFill>
        <p:spPr>
          <a:xfrm>
            <a:off x="228600" y="781200"/>
            <a:ext cx="8686800" cy="52956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8302680" y="221940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44000" y="400536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516720" y="5186520"/>
            <a:ext cx="1150920" cy="404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2340000" y="5618160"/>
            <a:ext cx="115092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54276" descr=""/>
          <p:cNvPicPr/>
          <p:nvPr/>
        </p:nvPicPr>
        <p:blipFill>
          <a:blip r:embed="rId1"/>
          <a:stretch/>
        </p:blipFill>
        <p:spPr>
          <a:xfrm>
            <a:off x="219240" y="771480"/>
            <a:ext cx="8705520" cy="56102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8244000" y="1268280"/>
            <a:ext cx="431640" cy="4050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8244000" y="213372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8244000" y="2997360"/>
            <a:ext cx="431640" cy="4046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755640" y="4710240"/>
            <a:ext cx="3384720" cy="4046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4572000" y="4710240"/>
            <a:ext cx="4248000" cy="4046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7"/>
          <a:stretch/>
        </p:blipFill>
        <p:spPr>
          <a:xfrm>
            <a:off x="755640" y="6006960"/>
            <a:ext cx="3384720" cy="4050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8"/>
          <a:stretch/>
        </p:blipFill>
        <p:spPr>
          <a:xfrm>
            <a:off x="4572000" y="6006960"/>
            <a:ext cx="42480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2231" descr=""/>
          <p:cNvPicPr/>
          <p:nvPr/>
        </p:nvPicPr>
        <p:blipFill>
          <a:blip r:embed="rId1"/>
          <a:stretch/>
        </p:blipFill>
        <p:spPr>
          <a:xfrm>
            <a:off x="228600" y="1409760"/>
            <a:ext cx="8686800" cy="40384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273880" y="2376360"/>
            <a:ext cx="432000" cy="4050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468360" y="4956120"/>
            <a:ext cx="676764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44:2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